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476-F9DA-4331-95DE-1777A56C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EA1-EF4B-4F35-9FD5-32C81A7E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F1F-1F93-4C0E-BD1D-4C180E22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211-2682-4EDA-9CEC-A33A40F2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0D73-E384-42FD-A840-951319B4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6837-7D49-4D2A-990A-E4205BC8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062A-30AA-4CF6-B049-030838AB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3F84-CBE1-4D55-BB64-62C3E494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34F9-4955-4DFB-8157-B05CD376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8593-404D-4911-84FE-A36A2642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FBD4-AF74-437F-B212-EF93FCAD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284-1813-4D80-9ACA-B3DB484C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3D83-9AFA-4C8C-BDCC-E55D4E08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4C19-544C-491E-9948-FCC40165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9F7F-81D5-456D-BECE-E7A3A547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814B-357C-47D2-80BE-04867347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B5B5-15EA-4BFD-A3B9-171AA575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375-3FE3-4057-B53D-2F0E04D9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AAD-99C8-4E26-AE0B-DB411FB2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A76-3177-4ACB-8442-364786CF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7DF-7FAB-4C57-A39D-E1CB97F0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232-51ED-4B2C-8886-ED4EFC5C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4C5-A32C-447E-801B-BF136515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54C-C3C1-415E-B988-1E02B045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9085-8875-4878-80F9-580165B4A0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34FE-8238-478E-BF3B-DC93E7CDC6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66"/>
                </a:solidFill>
                <a:latin typeface="Arial Black"/>
              </a:rPr>
              <a:t>ОЦЕНКА ЗАВИСИМОСТИ СПРОСА НА ПЕРЕВОЗКИ ОТ УРОВНЯ КАЧЕСТВА ТРАНСПОРТНОГО ОБСЛУЖИВАНИЯ ГРУЗОВЛАДЕЛЬЦЕВ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4680" y="3430440"/>
            <a:ext cx="622296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ов Юрий Игоревич, д.э.н., профессор кафедры «Экономика и управление на транспорте» Московского государственного университета путей сообщения (МИ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месячная динамика Индекса качест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6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71516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удовлетворенности клиентов уровнем ставок за перевозку груз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5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7786800" cy="407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Общие сведения о методике расчет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1760" y="1905120"/>
            <a:ext cx="4452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дальнейшего анализа из всех показателей, входящих в Индекс, нами были выделены пять важнейших, оказывающих, на наш взгляд, решающее значение на выбор клиентом транспортной комп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блюдение сроков достав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хранность гру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ревозка «от двери до двер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нота удовлетворения сп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ача вагонов по граф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ный показ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а рассчитан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2143080" y="5572080"/>
                <a:ext cx="10288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2" name="TextBox 9" descr=""/>
          <p:cNvPicPr/>
          <p:nvPr/>
        </p:nvPicPr>
        <p:blipFill>
          <a:blip r:embed="rId1"/>
          <a:stretch/>
        </p:blipFill>
        <p:spPr>
          <a:xfrm>
            <a:off x="5443560" y="2182680"/>
            <a:ext cx="3279600" cy="40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нные для расчета эластичности спрос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909720" y="1905120"/>
          <a:ext cx="7400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05120"/>
                    <a:ext cx="7400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6" descr="miit"/>
          <p:cNvPicPr/>
          <p:nvPr/>
        </p:nvPicPr>
        <p:blipFill>
          <a:blip r:embed="rId3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уровня качества транспортного обслуживания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Рисунок 21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032360" cy="40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62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степени удовлетворенности клиентов уровнем тарифов 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P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3" name="Рисунок 21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02876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Q=0,53Р+97,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фера применения результатов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ные компании (прогнозирование реакции рынка, оценка эффективности проводимых мероприятий, выбор стратегии роста клиентоориентирова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государственного регулирования (индикатор развития конкуренции на рынке грузовых перевоз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7:03:46Z</dcterms:created>
  <dc:creator>Юрий Соколов</dc:creator>
  <dc:description/>
  <dc:language>en-US</dc:language>
  <cp:lastModifiedBy>Evgeny</cp:lastModifiedBy>
  <dcterms:modified xsi:type="dcterms:W3CDTF">2014-11-12T06:40:07Z</dcterms:modified>
  <cp:revision>6</cp:revision>
  <dc:subject/>
  <dc:title>Оценка зависимости спроса на перевозки от уровня качества транспортного обслуживания грузовладельцев</dc:title>
</cp:coreProperties>
</file>